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A3E-88CC-4894-A4BC-19B6D75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283-4DDC-464F-81FA-6A1F085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F84-8815-4A7C-982C-91FE3F4F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042-92A7-435F-8152-70804540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D68-47E7-478D-99F6-F8A45A3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665-8E57-4314-B469-FDFCC10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ABD-2E71-4917-B975-BD66D5C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CF0-2456-4088-9123-105BDC2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3CC-C3A8-4A7A-A4FA-470AEC7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2BF-A8F3-4543-A685-F7330E4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C8E-8C1A-41FD-A22A-040B64F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3AC-BED4-4612-82E1-AEE9247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267-E7DD-409C-8EC6-D555CEF9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8/Pils_-_Rouget_de_Lisle_chantant_la_Marseillais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-lg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1463760"/>
            <a:ext cx="901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ve La Révolution!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arsfull.mp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oratio_nelson_first_viscount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838080" y="-770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iblog.co.za/wp-content/blogs.dir/9298/uploads/united%20iri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73520" y="228600"/>
            <a:ext cx="9001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oi! des cohortes étrangères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feraient la loi dans nos foye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oi! ces phalanges mercenaires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terrasseraient nos fiers guerrie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(b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VNT2A-00042~Rioters-Attack-the-Royal-Palace-during-the-French-Revolution-Posters"/>
          <p:cNvPicPr/>
          <p:nvPr/>
        </p:nvPicPr>
        <p:blipFill>
          <a:blip r:embed="rId1"/>
          <a:srcRect l="3902" t="9373" r="3902" b="135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62640" y="152280"/>
            <a:ext cx="9173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Grand Dieu! par des mains enchaînées nos fronts sous le joug se ploieraient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de vil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despotes deviendraient </a:t>
            </a: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les maîtres de nos destinée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475938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10134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066680" y="35042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beheading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-38160" y="15120"/>
            <a:ext cx="92026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mblez, tyrans et vous perfides l'opprobre de tous les partis, tremblez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s projets parricides vont enfin recevoir leurs prix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bis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15118-004-DC4A3F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-61560" y="151920"/>
            <a:ext cx="910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ut est soldat pour vous combattre, s'ils tombent, nos jeunes héro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 terre en produit de nouveaux, contre vous tout prêts à se batt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apoleon_horse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ambafrance-uk.org/IMG/jpg_bastille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Allons enfants de la Patrie, le jour de gloire est arriv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french_revolutio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-29160" y="-114480"/>
            <a:ext cx="8788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Français, en guerriers magnanimes, portez ou retenez vos coup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Épargnez ces tristes victimes, À regret s'armant contre no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marquis_de_bouille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8720" y="228240"/>
            <a:ext cx="857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is ces despotes sanguinaires, mais ces complices de Bouillé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us ces tigres qui, sans pitié, Déchirent le sein de leur mè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apoleon_horse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French_Revolution-1792-8-10_Paris_Commu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92240" y="-22320"/>
            <a:ext cx="8398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mour sacré de la Patrie, conduis, soutiens nos bras vengeu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iberté, liberté chérie, combats avec tes défenseu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(bi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4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cene-Of-The-1830-Revolution-At-The-Louv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12400" y="151920"/>
            <a:ext cx="8544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ous nos drapeaux que la victoire accoure à tes mâles accent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que tes ennemis expirants voient ton triomphe et notre gloi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Louis_XVIII2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372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838080" y="46472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fr-lg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1463760"/>
            <a:ext cx="901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ve La Révolution!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ar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9960" y="227160"/>
            <a:ext cx="770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e nous de la tyrannie, l'étendard sanglant est le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tstours.ca/cms_images/French%20Countrys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endez-vous dans les campagnes mugir ces féroces sold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2" descr="https://jspivey.wikispaces.com/file/view/louis16france.jpg"/>
          <p:cNvPicPr/>
          <p:nvPr/>
        </p:nvPicPr>
        <p:blipFill>
          <a:blip r:embed="rId1"/>
          <a:stretch/>
        </p:blipFill>
        <p:spPr>
          <a:xfrm>
            <a:off x="0" y="-2514600"/>
            <a:ext cx="9144000" cy="1013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143000" y="2590920"/>
          <a:ext cx="7534440" cy="1463400"/>
        </p:xfrm>
        <a:graphic>
          <a:graphicData uri="http://schemas.openxmlformats.org/drawingml/2006/table">
            <a:tbl>
              <a:tblPr/>
              <a:tblGrid>
                <a:gridCol w="7318440"/>
                <a:gridCol w="2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s viennent jusque dans vos bras egorger vos fils, vos compagnes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ke-wellington-600"/>
          <p:cNvPicPr/>
          <p:nvPr/>
        </p:nvPicPr>
        <p:blipFill>
          <a:blip r:embed="rId1"/>
          <a:stretch/>
        </p:blipFill>
        <p:spPr>
          <a:xfrm>
            <a:off x="0" y="-38088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38080" y="41900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rosenblumtv.files.wordpress.com/2007/05/french-revolution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8600" y="4320"/>
            <a:ext cx="91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e veut cette horde d'esclaves, de traîtres, de rois conjuré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qui ces ignobles entraves, ces fers dès longtemps prépa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ile:Pils - Rouget de Lisle chantant la Marseilla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10240" y="244080"/>
            <a:ext cx="900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Français, pour nous, ah! quel outrage quels transports il doit exciter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C'est nous qu'on ose méditer de rendre à l'antique esclavage!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5:51:53Z</dcterms:created>
  <dc:creator>Student</dc:creator>
  <dc:description/>
  <dc:language>en-US</dc:language>
  <cp:lastModifiedBy>anne metaxas</cp:lastModifiedBy>
  <dcterms:modified xsi:type="dcterms:W3CDTF">2010-02-24T15:07:06Z</dcterms:modified>
  <cp:revision>16</cp:revision>
  <dc:subject/>
  <dc:title>Allons enfants de la Patrie, le jour de gloire est arrivé !</dc:title>
</cp:coreProperties>
</file>